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ABBE-3266-4617-A78D-AE3FC1C63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E25C-473A-4D93-A458-71344CD80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F30B-CA0B-4D0A-9B65-08864A998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2B26-742F-40F0-B1BB-75FBBD772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F340-C49C-46F3-AC47-5F3DE71B2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2117-8234-41C5-8705-CDC867E45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E5A3-50CA-41E2-A6DA-992ADEAEE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44F1-11CB-49EE-975C-FD050D26E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4AD1-8F89-47F4-86FF-FCE5CF375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60D7-8A29-43B4-B174-099982AFF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EA62-3FB8-402B-975E-647F213BD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55CB-9E3A-4E24-A3EB-B53180232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0E95FE-6E28-432A-95AF-606CC0CE4F8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C828B9-BDC8-4AD3-B809-34B13394BC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IME PREVEN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: devoe bet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roduct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you hate going to places in young teens don’t act right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earch CIR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hicago and Cincinnati have programs that is working for gangs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IRV began in April, with funding from from U.S Department of Justice after the city recorded a record 89 killings in 2007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With strong  anti-violence messages and encourage to spread the word to teen in the street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fter that they are contract with “street advocates” who counsel them on turning a new leaf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crap Iron shifted gang intervention from police work elaborate behavioral approach that has two prongs: using law enforcement to aggressively get the message of zero toleranc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rticle Let’s Ban Together to Right to Fight Crim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 order to prevent crime, we must concentrate on getting our children off good start by helping them grew up with moral value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etween 1988 and 1993 youth homicide rate more than doubled while adult homicide rates stay the sam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evelopment of violence prevention programs and it conducts research on the causes of violence and the effectiveness of preventio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ost crime is against property, not people, and not many crimes are carefully planned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n anti-organization of over 5,000 police  chiefs, etc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rticle Chief Say “Anti-violence Plan Under Way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ames Craig the city’s first black police chief and first candidate chosen outside the police depart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3319560" y="2898720"/>
            <a:ext cx="2622600" cy="2622600"/>
          </a:xfrm>
          <a:prstGeom prst="rect">
            <a:avLst/>
          </a:prstGeom>
          <a:ln w="0">
            <a:noFill/>
          </a:ln>
        </p:spPr>
      </p:pic>
      <p:sp>
        <p:nvSpPr>
          <p:cNvPr id="52" name="TextBox 4"/>
          <p:cNvSpPr/>
          <p:nvPr/>
        </p:nvSpPr>
        <p:spPr>
          <a:xfrm>
            <a:off x="3618000" y="5700600"/>
            <a:ext cx="29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incinnatinewshub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ntinue “Anti-Violence Plan Under Way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is is about young people making good decisions, good chooses. I’m very big on the business of intervention prevention.”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espite a rash of recent police –involved shooting some officers still want to work with young children that is and criminal behavior.”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e want to start a “Boot Camp” at Over-The-Rhine school campus for at-risk youth, but that idea is on ho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e want Professional football players to help out, he feel that it’s going to help young teens because they look up to celebrity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e’s Planning a city-wide forum possibly in October to help determine the best approach  to reducing the crim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easefire Progr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I did my research on this program I saw a lot of thing like their program is very effecti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bert Wood Johnson which has supported Ceasefire since 1999 with $10 million in fund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program do background checks and drug tes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members must have have a job in stay with a job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rogram has been found to directly reduce shootings by 16% to 34% in targeted in neighborhoo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0T14:27:43Z</dcterms:created>
  <dc:creator>admin</dc:creator>
  <dc:description/>
  <dc:language>en-US</dc:language>
  <cp:lastModifiedBy>admin</cp:lastModifiedBy>
  <dcterms:modified xsi:type="dcterms:W3CDTF">2011-10-10T15:13:14Z</dcterms:modified>
  <cp:revision>4</cp:revision>
  <dc:subject/>
  <dc:title>CRIME PREVENTION</dc:title>
</cp:coreProperties>
</file>